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ABAF-01FB-494C-86F8-F8AB122BA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22D6-5393-4EAB-8530-E5A2C5E08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2004 PC World ranked Patrick Kolla’s Spybot and LavaSoft’s AdAware as the best spyware programs available. Both are free download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oogle, Msn and Yahoo all offer excellent free popup blockers. Additionally the new Mozilla browser FireFox includes a popup blocker. Finally, Windows XP Service Pack 2 installs a popup blocke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A83C-6017-4636-9435-E63394B85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ider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merica Online takes a very aggressive approach about blocking spam. After a certain number of customers mark an email as spam, AOL will refuse to accept email from that sen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zilla products include spam software. For Outlook and Eudora users, download MailWasher from www.mailwasher.net/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97E0-4BF1-4E13-AA15-B1AD41B7E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mputing Keynote feature at the end of chapter 14B provides a thorough examination of virus removal. PC World routinely picks either Norton AntiVirus or McAfee AntiVirus as best buys. A decent free product is AntiVir personal edition available for download at www.mailwasher.net/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C9BA-776D-42D9-8106-90A842809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mind students that passwords should be easy to remember but hard to gues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E7E7-85E9-4D62-A658-B53599A87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built in firewall in XP is not very strong. Many ports remain open. Disable Windows’ Firewall and install a free firewall from Zone Labs instead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2D74-803F-4C5B-8DF1-48A5A412B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ll versions of Windows since 95 have included a good backup utility. Other products include Norton Ghost and EVault InfoStag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0A78-C523-48D0-B4E8-E28511218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pen the event viewer for demonstration in class. A good method to generate an error is to disable the virus software on the syst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6CB1-1993-4EAB-AF1C-7CE4A925E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 the lecture reminding students that they should not use pirated software in general. However, using pirated security software is especially dumb. It is equivalent to letting a burglar install the new locks on your hous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7A0A-228C-42B3-A217-4DD82BD7B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ggest to your students that the CD’s they burn and store in their car are likely to have a short lif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875E8-9A1C-48AC-8DE9-D280383A0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cure online shopping is covered in chapter 10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118F-A7EF-4371-98A0-98B41F391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ederal Fair Dept Collections Practices Act allow residents one free credit report a year. Several sites offer pay access to a credit report. Visit www.creditreport.com/report_sample_m.html for a sample report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Visit www.freecreditreport.com for a free re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0577-C05A-401E-A087-C872F3218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aching t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rd party cookies are a primary source for spywa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DB1C-B029-4BA8-A0AA-B57FF680A9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41209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956C-C5ED-4EAC-A5D7-B9408DEC81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120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64920" y="4120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B1330-F19B-44A2-B156-E4AB20D16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96920" y="12949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50840" y="12949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41209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96920" y="41209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50840" y="41209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1C30-18D8-4168-B9DA-B5EC930BB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4120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6F9FB-AB2E-4BCA-8ED4-568865B9D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64920" y="4120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41209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41209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4120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64920" y="4120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96920" y="12949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840" y="12949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41209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96920" y="41209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840" y="4120920"/>
            <a:ext cx="25272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A1A1-40F2-4D37-8E87-ED925B759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E390-F888-4D89-B605-420D448B57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6377-00F5-4D3A-83A4-6940319FEE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C09B-322B-4303-A2A8-E37A99C4FC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4120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DD2D4-368E-4599-8039-F2A3033DDD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64920" y="4120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D30DA-AA2C-44BD-9D57-6655115F99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4920" y="1294920"/>
            <a:ext cx="38300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4120920"/>
            <a:ext cx="7848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4C39-6FAF-47B0-A07D-97D3EFF53F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ontent-scree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-137160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14B-</a:t>
            </a:r>
            <a:fld id="{F9F259CF-0963-4E45-B6A9-6502444321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chapter-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10"/>
          <p:cNvSpPr/>
          <p:nvPr/>
        </p:nvSpPr>
        <p:spPr>
          <a:xfrm>
            <a:off x="3733920" y="6477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Book Antiqua"/>
              </a:rPr>
              <a:t>© 2006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1066680" y="647712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6f2ea"/>
                </a:solidFill>
                <a:latin typeface="Book Antiqua"/>
              </a:rPr>
              <a:t>McGraw-Hill Technology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09320" y="251460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cture 1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723888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 anchorCtr="1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king Protectiv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A3E92206-DEE2-40EE-B714-B18FC87DE87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ing Cookies and Spy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web bugs and spy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a spyware removal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are 100% effective, use 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all a pop-up bloc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extremely eff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59F4D880-BB96-41D8-9EBE-C12B534125F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ing Cookies and Spy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ding sp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your I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ail program’s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 anti-spam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n online account for purch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F5E02893-FAF1-4733-80A0-6929622B063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ection From Mal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uses and w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 a good anti-virus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product upd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your OS up to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5A443CC4-28F9-457A-9CEC-0983829DFC1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ecting You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 physical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st way to harm or ste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an account for each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a password for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and hardwar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88ADB685-1360-4FD2-8850-7D9740E9BD7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ecting You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fire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from unauthorized remot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your computer invi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between $0 and $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600200" y="3429000"/>
            <a:ext cx="67816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D10FA5C1-6382-4311-BA99-C5BB0B78BC1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ecting Your 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up is a copy of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ore replaces a file on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s backup at least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users should backup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7D4F0840-D029-4EF1-A9C5-74332FFD180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stem Ev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generates messages for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clues about computer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lert to potenti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 includes the Event Vie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2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59304FB4-E8B0-4D78-8E96-A77CFE1A3E5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nt View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934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9CC55D9F-A4DA-4073-AB85-627895BE4DD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ndling Storage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media in the proper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ppy disks in a hard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 should be in a slee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mb disks should be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D:\My Documents\!books\norton im\chapter 14\diskcase.tif"/>
          <p:cNvPicPr/>
          <p:nvPr/>
        </p:nvPicPr>
        <p:blipFill>
          <a:blip r:embed="rId1"/>
          <a:stretch/>
        </p:blipFill>
        <p:spPr>
          <a:xfrm>
            <a:off x="5943600" y="4022640"/>
            <a:ext cx="295920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41278AA5-C950-4B47-85AF-A723D9F1705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ndling Storage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magnet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s erase the contents of d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ts found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visions and CRT mon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66FDB3C2-3896-4C5A-9654-E4AA37CD28A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oiding Identity The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d your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red unneeded pa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up you mail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statements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records for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6585120" y="3429000"/>
            <a:ext cx="230004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7063E29B-6588-46C5-872C-81B23E0C24B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ndling Storage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and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extreme temper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expand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d contracts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ppies and CD-ROMs are suscep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2174B134-6788-4E01-A5BA-627E8C85D04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ndling Storage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is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use wet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s can be wiped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ppy disks must dry for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FA55FE64-3E88-4B91-997A-2DEB0BBB557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andling Storage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st, dirt, and finger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ty or scratched media will f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media by the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CDs with gentle stro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BF6318B3-5629-4809-A487-397F84CEB83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ring Computer Equip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store near large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in dry, climate controlled ro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for natural disa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 equipment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899F03A8-0A96-40EB-A271-BE4B1B5B4D4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eping Your Computer Cle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should be spot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ating or smoking at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dust from inside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filters if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D:\My Documents\!books\norton im\chapter 14\clean.tif"/>
          <p:cNvPicPr/>
          <p:nvPr/>
        </p:nvPicPr>
        <p:blipFill>
          <a:blip r:embed="rId1"/>
          <a:stretch/>
        </p:blipFill>
        <p:spPr>
          <a:xfrm>
            <a:off x="4648320" y="3924360"/>
            <a:ext cx="4267080" cy="27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 anchorCtr="1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End of Chap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03065DE1-518D-4BD2-BEF4-277187F3FB2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oiding Identity The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d your personal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wary giving ou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giving account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ver give personal information in e-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online shopping is 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3101C614-FCD8-48C0-8FE4-1DBEDD37417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voiding Identity Thef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the big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your credit report ye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 efficient fi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your liabil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D145C90D-DD10-47BF-BD98-15C57F3578B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ecting Your Priva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marketers at b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wary filling out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d your primary emai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‘spam account’ for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3D85D9AA-A82D-463E-A3CD-611C88133FD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ecting Your Privac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 your leg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6 Freedom of Information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0 Fair Credit Reporting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cy Act of 19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6 Electronic Communications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Modernization Act of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1 USA Patriot 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0AE9BA6B-D18F-4CB4-8DDD-46EF4F752E9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ing Cookies and Spy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aling with cook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rs provide settings to block coo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okies to all cookie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cookies some sites cr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kies can be dele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w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ywar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80C206D8-BE25-41D6-B370-088A504938E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ing Cookies and Spyw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ki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sion coo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es for the current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istent coo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d on hard drive until de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party coo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ed by the current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-party cook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ed by an 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-137160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B-</a:t>
            </a:r>
            <a:fld id="{BAE18D4F-8569-46ED-80BC-674EDF32E9A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leting Cook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2209680" y="1371600"/>
            <a:ext cx="47228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02:07:12Z</dcterms:created>
  <dc:creator>Lee Cottrell</dc:creator>
  <dc:description/>
  <dc:language>en-US</dc:language>
  <cp:lastModifiedBy>mmalam</cp:lastModifiedBy>
  <dcterms:modified xsi:type="dcterms:W3CDTF">2015-08-09T07:58:49Z</dcterms:modified>
  <cp:revision>31</cp:revision>
  <dc:subject/>
  <dc:title>PowerPoint Presentation</dc:title>
</cp:coreProperties>
</file>